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8CA-7459-4460-931E-685EF7CC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C0C-4BFE-4282-B751-906535E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90710-C0B3-4038-9B84-75173612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15DD8-7ACF-4FFB-B4EE-5EB3F40E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DD32A-75E4-405D-BBC9-8D237348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9F5B0-3926-4FDB-BCBE-1DEBD76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46688-7CA8-475D-ABA8-E0C62E1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4A380-4F38-4089-9A4D-2B1DE9E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AF19E-558E-48B3-88C0-6521712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8A93-2EC2-41C5-BAB7-2DE06485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A22F7-255C-4551-83AA-A702F5CC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8CF4A-1826-4FDB-9B7F-903615C1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1A0-F002-46CD-89E7-C1FB1414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A7003-1E66-47EF-B963-37DF9010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BA6FF-1C99-4625-91E9-E8C585A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E2973-AF30-4FA4-8C7D-D9593AC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273D-585C-43D2-83A3-B57D137E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B7B80-C9E2-4489-82E0-4B58A75D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A0C55-B7D8-4116-AB75-AFAE9D57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B7D2A-D76F-4752-AA76-11EEB25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C4778-FCEA-4572-9D2A-74623D78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1F97B-7C4D-4CA7-8475-EB37ED0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3AF8B-DDC7-4690-B88B-9AF055F4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932-373D-495C-8FC8-27FEB844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F9F41-586B-499B-98F7-6002E00C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F08A5-19EF-4AB6-B2ED-4055160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203C0-3D57-4287-830B-3DDFEED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FCE07-2ED9-4999-B57A-002940B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E68BE-A5BA-47CD-A458-F308CC32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309D3-CDFF-46EE-8185-F5A8204A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AC586-A1D5-4533-B76B-D35C6EF1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1B92C-F0AB-488C-904E-0A9C6E9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15206-BA2B-4675-835B-3A8AA2C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81F08-516E-42D9-B7BB-5C197F2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3DB-1439-4BDA-8224-216E9D29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3FF43-5CBC-40FB-8048-9CAC2709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A710A-FC2B-4334-90E1-BC7EF557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0BD79-294A-4034-8A6E-F4E42BC5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C7FA-7E5F-4EA7-AFE4-10657E3A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EEBBA-6D04-4FF7-AB3E-3C05769D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0028-C663-4115-9657-36499A44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19B1A-D3E4-4BEE-99A2-11EBB75A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66678-44C1-4204-89A1-9BAE123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D8DB3-8E72-4484-99D6-81BD06EE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92E10-6089-4425-8F25-098DD75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85B3-67B5-4EC6-B560-EC791CC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167A0-B069-4A8C-B120-C25FDC9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FB3BB-17F0-4295-B188-92F0628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C00FF-7052-44A8-9F90-B38701CF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6E23B-0F88-407F-87F8-8C5D73D3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C501D-15E6-4B3E-A5E8-83359858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47F34-1FF7-429D-8EA0-46B8DC9C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C70E0-7CAD-458C-974B-A5E93BA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671B6-CB0D-4EA1-856F-6AAD90E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E55C0-6124-492B-B70D-0E47DDD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3F0FD-B2F3-4727-AE96-CE76D85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6044-711E-4EBC-B759-039825D4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BBA0F-BD15-46BF-8E73-886C9510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C8C21-EDD5-4FC8-B180-9A838B1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F999A-C2B7-4CCC-84C4-198D547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3506E-702E-49D3-87F4-13AA931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09DD-0B48-42BF-B10F-14C4FE7B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06471-CC1C-4962-AE75-8FAA8AA3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C0ACEE-77C6-4219-B98B-A371CF78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CCF49-EA62-4212-884C-3C135C87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039BF-A715-4852-BD5B-DC45A29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CE6D2-E859-4AAD-B34A-AADC7A76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3F2F-F8D2-428F-9906-35D7AFF7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45622-A689-4D69-BA9D-3F9CB7F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1D41B-4335-4EA9-B2D7-0FE35A43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7A95A-7A7E-4ECD-AFD9-9F88611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F8D1D-B94A-47FC-955B-660E3D5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75C50-3530-4F4B-A328-B1504D6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B35AB-2422-43FA-A6C4-AD82142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CD684-6658-4A02-8B11-1B8DD893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AF83C-056A-4433-8BDE-ED2EFE93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B9D04-08AE-4861-A248-AA2D0A6A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C6A3B6-93B4-409A-B141-6F793F1A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628-F8D5-4895-9A27-75674C3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80E4B-34A0-4213-B070-52C862C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CA64A-FE36-4809-8B06-4558ABE9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05102-6C20-4770-9DC0-AC94327F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EAE25-CFEC-446C-ACE7-5FB4E528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29657-9F2C-4750-9985-EC504AF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FEDEB-5825-444E-B0B3-099B207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662EE-9D4C-4703-B549-90F3CA4B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D2CED-EB90-445A-A1EB-ACB0161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93870-353D-4CAC-B790-0178E1E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44A34-08CE-49DB-983A-ED0D2F45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B8EE-E136-4F8E-8A90-B6CD0AC2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CC6BD-E515-4DD7-91F4-5A0363CB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59AEE-D4F6-471C-978B-12672215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EC441-E85F-47BC-8A63-1E9707F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FFF6C-9EF2-4DE1-BFBC-4BB78296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9AFA0-2C59-4300-861B-EA4D8861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BCAA9-B723-46A5-B351-66F1109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941DA-464C-4B1F-8E98-0248B5F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EFABE-9500-4AA2-B9CC-7FAC20C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FA061-416F-40AB-ADE6-4794AFD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EA577-25A7-41EF-A35B-045AC6A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B84-4B2E-4455-88CA-7BA12FB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717AA-6683-4E1E-A193-F7F97BF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F1187B-CB1A-4B8E-8057-B565B51D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5224E-9DF4-4C84-8D8A-8392D05D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6C6C5-4E8E-4B9B-8C8E-A61580AB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C9634-5E2D-4DDB-A58C-3C1B5C5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39ED72-FAC5-4699-B863-5B9A3398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0DBDF-3DBA-46AA-9437-790E7F2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AC9FF-5FE8-4D4E-BABC-7619E13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97CB9-632F-42EB-9C05-F7EA2966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8A7D9-1647-4787-BB55-8F61622D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5DF-7654-46AA-9E44-3B9101D0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875D-260F-4285-BB36-E3251F1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B9D2B-DDAA-491A-8C54-2BECF2CA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02957-A80E-4972-98EE-E573BB7F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BAEF7-B1E9-41AB-8DF6-8F75390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21A51-23D0-443E-93E7-97DB77D8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979F9-21A8-4314-9D05-34E2045C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A0D00-8E3A-40D9-88C7-2DCBB952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2FA96-1821-402F-94A1-9E68652C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CEE4D-5520-48FD-856A-55B401F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667C9-3D3A-49CC-B8FF-EAEB659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0F464-996E-4424-B13E-44CDE614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2A26-FC69-4047-B0AA-0A224372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9DEC4-B953-4552-BED2-BA420602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E308AE-F6B8-4929-8341-0C7AA09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D7113-1D3C-4703-9C83-4C505F9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57EA1-6C1C-4678-B741-1A38D20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850EA-C6E6-4762-882F-19AF981B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B5D23-3B23-4C77-B0B8-4FEA5C1E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66B02-940A-419A-B0C4-EDF8C5F7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DC9214-7D90-4DD0-846D-62F77517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F56D5-E586-43E6-AB32-36A1AF3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825FE-431E-41C9-8E56-5DC02BDF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7FBC-EA93-4C7E-85F4-91CD104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A168D-5638-4D44-BAC8-5CE759F3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0F85F-C3AD-4A8F-8E71-C7BAB1E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E04A7-3740-49C6-9CB1-48207CE2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18C20-E69B-47C1-9EA7-AC328D7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E4D68-0B4E-4C3B-A70B-14036EB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17AD7-8B94-4D81-85A9-A31104C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F8B03B-9481-46E8-ABB5-303663BA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C0859-878D-4110-98A2-00BBFD2C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462D4-84AA-4302-81A2-480BA417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DE43F9-4890-4080-8D87-F0477F38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CABA-31CE-4CE3-8D59-65D783A5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32686-ED2C-44DB-8D96-C6BC8CEF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1FCDC-455D-41A2-A55B-846B77F1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6D169-E318-4C27-B538-58901AB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7C502-082F-4B3D-BFE7-B69FE991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52E02-64A5-4D90-B0AB-529A8AC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9D376-2B29-4D01-A2D5-6503E16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57996-51E4-4126-8AB7-FFEB81C4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5CEA11-B545-4047-8272-F805028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ED90E-36A0-48EF-87C0-9A8C72C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0B128-EFFB-4812-B088-AA8F2D7A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1C4E-4205-43CB-8499-7CD498BC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EEFFA-450B-438E-83C6-6918E0E4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34DDFA-3D2F-4218-8F39-BB27EE68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416F4-BEC8-496E-92AF-73072A88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08BB50-7E47-490D-A477-DA9696BF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230B4-1279-43F1-9178-6947B40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A4FBE-6529-4E96-9F35-F302994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B5FF8C-0F08-423C-8859-EFB6546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06CFE-212C-4ED1-B9E4-4483B5D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49250-F982-43A6-BC29-7CCA802F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C898B9-B399-4995-9B50-52C84D31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FAE1-6B2B-4A67-8845-8809F0D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E39EE-D137-4DD9-9AFD-3A4A4878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4607B9-049C-40D8-8382-DC891BE7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04A8E-CDED-4916-98EF-E3921775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78AE-536C-4880-ABA3-6E793EE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69AB-D7F8-4525-B414-7DAAFFB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B5C3-FBE6-46DD-B095-ED495329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3E2F-4EA0-4CB7-B947-0F8E1C74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123-C4D4-44C4-B854-33A867D9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EAB4-F449-45C0-8A20-182455F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7265-FEE0-46C2-8EBD-E0FBB9C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045F-2F30-4E11-8A29-331112C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9356-C19C-4C2A-8403-CA38E36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8A27-621F-4FE9-9D36-CF2719A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6491-D8BA-43EF-88B9-06AF2BC6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4293-5233-4F61-831E-B189D232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3D8C-193B-47F6-8BD4-9CEB0730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15D9-971F-4DC4-B67A-619DA77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3397-2435-4B37-869A-77909FEE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F6F-981D-40C7-BC24-38DFEEB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BD4E-CED8-4B5E-B18A-025016A3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B6696-02CD-41AE-B5DB-2FD8B5AF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EE98-D8F3-4672-8572-386B72AC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AD29-72B1-47A7-B52C-04BCEA6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FA15-363A-441D-9BE3-038DC02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6154-FC1A-46EE-8823-24631228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41AA-8BFD-41B6-8A06-54426B2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1D25-1B23-4C02-BDAC-3EE7080E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0C0C1-E8F7-4039-8805-C819DA9F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C7D9-D8DE-4935-918A-922B11A8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3AA-F926-4E7A-81C5-E905A27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05A4-EC0D-4786-9A2D-3C93E0B6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3CE0-9872-42AB-B2E7-745491C8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1888-E116-401C-BB3A-F0C14D2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5490-0398-4240-8870-B0B4168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74AE-BBDE-4CB0-9F34-66F63054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8270-9482-4922-8FAD-C734D64C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3251-7172-4B55-BDE3-19F78E4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A0847-BF7A-49DD-8B8F-F652FD5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A827-E8DB-40F4-B088-DBB6989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215A-9D4B-416B-83A3-4F818C9D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AA3-CCAF-4A32-8748-0C06A26A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0497-16F9-437E-8ADF-5F9F1F7F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9A40-AFBE-4279-81DE-85EC55FB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ACAF-BEFF-424B-B3BD-8C1A538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772BB-A8F8-475A-A733-6895D606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EA37-4746-4F9E-81CE-032CDEB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3041-B000-44C1-B612-829951AF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F33D-8251-4C55-AC23-BC6B61D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E940-D605-46F1-BB43-EBE877A3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1DBEB-08A8-4CFB-8580-B432000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D906-F9F4-429D-83EB-CF4D356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D30-2C75-455F-AFC0-F2BEE87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30A66-2EE3-47C8-8D3E-FD2B073A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A8410-88FE-4750-9B43-BB577F8F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D599-0013-4580-AFA4-DE6B3044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C6816-B89F-440C-9DF0-81A8D7A1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EB04-00CC-41CC-86A4-97F542E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77CA-C8EC-4AEC-B394-DCF09660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A4A9-97F8-48C0-A0F1-8859A04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FE90C-F439-4A75-B557-CD8C6082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10D1A-A394-4BBF-91CF-ADC251FF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06D12-70E7-4E07-BBE1-9B8277C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09D-6E56-4515-B8C7-6089AA26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AC5FB-A43D-47BB-A617-E5FD971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A483-6933-487E-AF30-53C96674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D91B-D5A3-4014-B47E-945946AC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CA3A-E705-412E-B50F-6EDE89D5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87DF-CCCA-445A-AC82-52B678A6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295D-944D-4871-BDC4-A68BC779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DC7EF-DC93-4856-B2A5-A2CBEC0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A036-96F7-411F-A4D9-9F3D0C6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5EEB6-6D24-4739-B4A2-0DCE3E2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640B3-D8A7-4A6B-B446-AB39B6C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5B0-A177-461A-9126-00063D2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E681-192E-4353-B92F-0378341F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D816-454F-49F5-B0F0-D4261992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3F408-4F68-4D22-958D-D48054C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4E6D-4C0A-486F-A126-743BB7B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B1B52-1CCB-4DFC-A9B8-E8481E55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C3EC3-AA96-4E1A-A45C-F4F747B9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A66C-4E8C-4753-AE5C-E53C9A1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06FC-72D1-468F-B125-47D1DB15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81E4-DE9D-4DDF-A0A1-5C134ED1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3612A-06C6-44CD-99D7-35A41E4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B887-415E-4967-95BA-F091D263A5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A393-5375-4920-83B6-B5E3BCAAD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DA4-5C3D-44B0-96B4-63B933EE71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015B-C23A-4A0C-9033-517042BBC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4B68-D614-4068-A21C-A10DB6B4D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C32B-288E-4061-97FC-7697EDDEE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2D6-A447-4068-9672-D4B2A478E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D8B-D198-4985-B621-5FA38B089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BBE-F911-48D5-94B8-1ECF04CB3C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2DEC-AB95-464E-8493-545A8DA7D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467-A694-46CB-88D5-CA7A257E7E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3F8F-ECA0-4759-96A5-87F34F516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79A-1ACB-49A7-98FA-A1B32B116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240D-64D9-4CFF-A62F-4A9734C68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5A4-1BA5-424D-BEB5-B4A7413453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304F-0274-4079-8848-1087ADF235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A5FC-C370-4419-8ED7-1EFBBB0824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D978-3769-44F8-BC85-ABAB8427B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20F4-B745-45F8-B262-E01A15B76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494-A859-416F-957E-CB15A02374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5F8-53BB-46B2-9E2E-D82FEB9DA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849A-5E26-4BA6-9BE9-F1EEAFC7D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227-845B-4588-9576-8B23E04F1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BCD-0807-4BA4-A335-4EB3F55C6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4E0-2A47-4F61-933D-BCCFA729E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2752-E9E9-48C4-9498-8077DFD58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AD4-FEAC-4439-9529-0624DD4B0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2EC8-C35A-4A8D-88AA-49A0727D0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DABB-5EFE-4821-9C48-BBC2D3791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ED2-0A43-4789-A153-7329C923A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E0D4-528B-4D49-9739-B491A7C5A8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7D26-E2D5-4342-9680-B61CD458E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2918-03E1-4D8F-8D92-660AC4487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851E-AFA2-4A1C-B1BF-827F4728D0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164-7108-4F8B-8D77-172085748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CE8-287F-477B-A3C0-4C7881852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46E-279D-46F9-A6DD-FFAF75A4B0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BD2-47E1-4744-AF03-509DA9059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F1B3-4594-4F37-BCAB-C3B70635C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313C-F96A-4DFF-96B1-9B76A2AAC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38440" y="3114720"/>
            <a:ext cx="3867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7320" y="1338120"/>
            <a:ext cx="8829360" cy="418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47640" y="2511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80000" y="2546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012000" y="2536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44000" y="25272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547640" y="29052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780000" y="2881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12000" y="2924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244000" y="2905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39640" y="477828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68360" y="514836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948360" y="3995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516720" y="428292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28520" y="1771560"/>
            <a:ext cx="8886960" cy="3314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3097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468360" y="2746440"/>
            <a:ext cx="30970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95280" y="4321080"/>
            <a:ext cx="3097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95280" y="4691160"/>
            <a:ext cx="3097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495360" y="1457280"/>
            <a:ext cx="8153280" cy="3943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37636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062000" y="3943440"/>
            <a:ext cx="23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580000" y="3573360"/>
            <a:ext cx="2376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237672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971640" y="5075280"/>
            <a:ext cx="23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1:2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